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377-085A-426A-81E9-7EDA448E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80E-DBB5-4292-B027-D989C0B3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DDC-B58F-4BEC-8B27-68737ADB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CC0-1EBD-4C6B-AA5F-8A0318EE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E8E9-94D4-4B6D-950F-205B442F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9E93-8742-4F6B-A9B4-919315A9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5E4D-D4F6-40C2-8957-0BBC1CF2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034B-4E2E-4D62-AB06-99DBF2FA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EA1F-B9B7-469A-B4A8-A8859406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0AE7-E3E8-43AA-9DEE-D3FCD7C0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B7F4-F566-4EFD-94B0-375A5A0B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E81-8547-4533-A48A-0A20AE0F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242D-594E-4325-98AE-B718D447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68A1-BB98-46E3-B44F-D2469143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0AA0-1B71-4FB5-B428-0EFDEF2B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447E-296A-44D4-8422-D488DA7A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D00F-D979-433E-8191-F83A5D6E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21D-2984-44B3-AAD8-93F5893F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FC9-7853-4D15-ADE3-D8278BCC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572-FEE6-4029-9A9E-DF3C4BD9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C98-90CA-46D3-97BA-B2CA6273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3E0-A4E3-456A-A262-E4620A9E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C4A-30C8-4C95-B16B-599B427C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599-6D87-4E15-ACFE-774D6E17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92F1-A1DA-4222-A83E-5F6A720A33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0406-5922-409E-911D-5C7627EB94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47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Clonarea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627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655640" cy="640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593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2664000" cy="287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700" spc="-1" strike="noStrike">
                <a:solidFill>
                  <a:srgbClr val="000000"/>
                </a:solidFill>
                <a:latin typeface="Edwardian Script ITC"/>
              </a:rPr>
              <a:t>Ce este clonarea umana?</a:t>
            </a:r>
            <a:endParaRPr b="0" lang="en-US" sz="5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Clonarea umana reprezinta crearea unei copii genetice a unui om care exista deja. Termenul este folosit pentru clonarea umana artificiala, facuta in laborator si nu cea naturala –gemenii, tripletii monozigo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Clonarea presupune lipsa aportului genetic masculin la conceptie.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Clona poate apartine genetic unui barbat sau unei femei in viata.</a:t>
            </a:r>
            <a:r>
              <a:rPr b="0" lang="hu-HU" sz="20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1480" y="3955680"/>
            <a:ext cx="3925800" cy="2063880"/>
          </a:xfrm>
          <a:prstGeom prst="rect">
            <a:avLst/>
          </a:prstGeom>
          <a:ln w="0">
            <a:noFill/>
          </a:ln>
        </p:spPr>
      </p:pic>
      <p:pic>
        <p:nvPicPr>
          <p:cNvPr id="93" name="Kép 2" descr="C:\Documents and Settings\Rendszergazda\Asztal\clonare_1_top.jpg"/>
          <p:cNvPicPr/>
          <p:nvPr/>
        </p:nvPicPr>
        <p:blipFill>
          <a:blip r:embed="rId3"/>
          <a:stretch/>
        </p:blipFill>
        <p:spPr>
          <a:xfrm>
            <a:off x="6958080" y="206064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94" name="Kép 3" descr="C:\Documents and Settings\Rendszergazda\Asztal\clona.jpg"/>
          <p:cNvPicPr/>
          <p:nvPr/>
        </p:nvPicPr>
        <p:blipFill>
          <a:blip r:embed="rId4"/>
          <a:stretch/>
        </p:blipFill>
        <p:spPr>
          <a:xfrm>
            <a:off x="5448240" y="4149720"/>
            <a:ext cx="36957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451640" y="4365720"/>
            <a:ext cx="169236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80866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Edwardian Script ITC"/>
              </a:rPr>
              <a:t>Tehnica clonarii</a:t>
            </a:r>
            <a:br>
              <a:rPr sz="7000"/>
            </a:b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ata cum descrie pe scurt Dr. John M. Haas tehnologia clonarii prin"somatic cell nuclear transfer: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‘’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ucleul unei celule somatice este luat si pus într-un ou al carui propriu nucleu a fost extras. Este ca si cum am înlocui galbenusul unui ou. Dupa ce nucleul oului este eliminat si înlocuit cu nucleul celulei somatice, oul este supus unei descarcari electrice într-o placa de sticla si noua viata începe sa creasca odata ce începe diviziunea celulara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i="1" lang="hu-HU" sz="2000" spc="-1" strike="noStrike">
                <a:solidFill>
                  <a:srgbClr val="000000"/>
                </a:solidFill>
                <a:latin typeface="Comic Sans MS"/>
              </a:rPr>
              <a:t>’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8001000" cy="2060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356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ffffff"/>
                </a:solidFill>
                <a:latin typeface="Edwardian Script ITC"/>
              </a:rPr>
              <a:t>Pâna aici tehnica este comuna celor doua tipuri de clonare. Daca se intentioneaza însa clonarea reproductiva, urmatorul pas este implantarea embrionului în uterul unei femei, urmat de gestatie si nastere. </a:t>
            </a:r>
            <a:r>
              <a:rPr b="0" lang="en-US" sz="3000" spc="-1" strike="noStrike">
                <a:solidFill>
                  <a:srgbClr val="ffffff"/>
                </a:solidFill>
                <a:latin typeface="Edwardian Script ITC"/>
              </a:rPr>
              <a:t>Aceasta este tehnica prin care a fost creata oaia Doll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Nuclear Transfer Vie Electrofusion in Mammals - diagram"/>
          <p:cNvPicPr/>
          <p:nvPr/>
        </p:nvPicPr>
        <p:blipFill>
          <a:blip r:embed="rId3"/>
          <a:stretch/>
        </p:blipFill>
        <p:spPr>
          <a:xfrm>
            <a:off x="684360" y="1844640"/>
            <a:ext cx="7775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5122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In 2003, Oaia Dolly, primul mamifer clonat, a fost eutanasiata din cauza unui incurabil cancer la plamani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lly s-a nascut la Institutul Roslin, Edinburgh, Scotia, la data de 5 iulie 1996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amenii de stiinta au inlocuit nucleul unui ovul cu nucleul dintr-o celula parentala – in cazul lui Dolly, o celula provenita din ug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Nasterea lui Dolly a fost anuntata in 1997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Moartea lui Dolly, la fel ca si nasterea sa, a ridicat noi probleme cu privire la cunoasterea procedeului clonari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84720" y="4076640"/>
            <a:ext cx="305928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48360" y="1557360"/>
            <a:ext cx="30956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                    </a:t>
            </a:r>
            <a:r>
              <a:rPr b="1" lang="en-US" sz="6400" spc="-1" strike="noStrike">
                <a:solidFill>
                  <a:srgbClr val="000000"/>
                </a:solidFill>
                <a:latin typeface="Edwardian Script ITC"/>
              </a:rPr>
              <a:t>Clonarea </a:t>
            </a:r>
            <a:r>
              <a:rPr b="1" lang="hu-HU" sz="6400" spc="-1" strike="noStrike">
                <a:solidFill>
                  <a:srgbClr val="000000"/>
                </a:solidFill>
                <a:latin typeface="Edwardian Script ITC"/>
              </a:rPr>
              <a:t>plantelor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52480" y="1805040"/>
            <a:ext cx="497052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ntru obtinerea clonelor se utilizeaza fie prelevarea meristemelor, fie inmultirea vegetativ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t la plante, prin cultura de pollen, antere, ovare sau ovule nefecundate se obtin organisme haploide normale, dar sterile</a:t>
            </a:r>
            <a:r>
              <a:rPr b="0" lang="ro-RO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1981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219640" y="549360"/>
            <a:ext cx="3384720" cy="181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429000" y="2857680"/>
            <a:ext cx="5715000" cy="4000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95280" y="333360"/>
            <a:ext cx="48769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Edwardian Script ITC"/>
              </a:rPr>
              <a:t>Sfarsit</a:t>
            </a:r>
            <a:endParaRPr b="0" lang="en-US" sz="7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Edwardian Script ITC"/>
              </a:rPr>
              <a:t>Acest proiect a fost realizat de:Suciu Denisa, Resch Noemi, Berner Yvette si Haaz Helga</a:t>
            </a:r>
            <a:r>
              <a:rPr b="1" lang="hu-HU" sz="3500" spc="-1" strike="noStrike">
                <a:solidFill>
                  <a:srgbClr val="000000"/>
                </a:solidFill>
                <a:latin typeface="Edwardian Script ITC"/>
              </a:rPr>
              <a:t>, Bohler Hen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21:51:24Z</dcterms:created>
  <dc:creator>Suciu Denisa</dc:creator>
  <dc:description/>
  <dc:language>en-US</dc:language>
  <cp:lastModifiedBy>Yvette</cp:lastModifiedBy>
  <dcterms:modified xsi:type="dcterms:W3CDTF">2011-06-10T13:51:27Z</dcterms:modified>
  <cp:revision>4</cp:revision>
  <dc:subject/>
  <dc:title>Slide 1</dc:title>
</cp:coreProperties>
</file>